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28.png" ContentType="image/pn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png" ContentType="image/png"/>
  <Override PartName="/ppt/media/image11.png" ContentType="image/png"/>
  <Override PartName="/ppt/media/image48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chimes.wav" ContentType="audio/x-wav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CAA-1CD7-406D-871E-448346EA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772-676C-44B6-9373-C37ABF1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4DB-3A3A-4DB8-AD73-0AE95161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53B-323A-4EE9-B4E7-E6EAE381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702C-EB8A-48CF-82D6-AB74D8F5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8D4-9A6D-4EDE-A8F0-FD90F1F1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A3EF-7881-4F33-89B3-05E13B73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76A8-5DDE-4F67-B52D-CEB06EA4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5018-BBD3-49BA-8893-78E1AE81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A00D-16A0-439E-8A57-AF438916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CD00-47FB-435B-850E-6712A6BC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682-2F95-41B4-83D4-87727366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9609-022E-4512-BFB2-FC0ECA09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BD52-A2A8-49E5-8474-DAC7745C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33D8-2D37-4537-B9CF-6C9CD96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B14F-BCF1-4D2A-A066-F64F41FB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F75F-35DB-4896-9542-AD766D02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F8AA-6091-4076-9A43-37E579D9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D90C-5D70-4DDB-8A48-E5C3413D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401A-3844-4204-884A-4FA55314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AFE0-1C89-4E08-A3A0-5863BF4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6D4D4-A8B3-4A50-8429-2F893A2B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08B-07A4-4B43-93AA-E75DFB9C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5988-6FDB-4560-BE77-ED6E2F44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BEDC-D7FB-4ED6-AC46-BCF25DE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5EA12-55E0-406B-BE50-85301A0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D7F3-75E7-4CCF-B2A9-BB58B58D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9B4A1-DD40-4362-A67B-D94C4119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6D5E-9BBA-409B-A42D-B0E4903C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D5EB-C529-453E-9AC0-AAA2DA5E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4CD9-2EB2-40E0-AD21-5970EA2A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2391-ED1A-4BF1-B28D-B926A9BD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ED8E-0347-40B1-92BB-BDB7E83F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A61-2201-4B83-B63E-136AF0AC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7A36-83D2-4DF3-B2BC-5D224309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0577-D3E0-4072-A6FE-E15327C4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23E6-5194-4B3A-A200-8D36654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9D09D-E8C7-4AA5-9BBE-B6AC8FDF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6D14B-09A9-4615-90C3-6FE277FD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5B16-350C-40E9-BB9A-045E5E5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1979-1172-4245-8AD0-9133B00A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15097-A046-42BB-A95C-7AAEC4F5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DF8F5-1162-4CF7-9A93-27077DD5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C1A-9B2C-4E9A-96A4-6A06C299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E0A-8CFE-4F0B-A3B5-B4F7F21D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437-7517-4399-831F-9DF604FC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08D-DB04-41DE-9FB5-C1EAD723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509-D4CA-4C64-82A5-BDFC165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875-FE2C-46FC-BA7D-3279092B78B0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0D0D-F340-49D6-85E8-2FD1FFC27A31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D8EA-2727-4A35-8C87-0147864ACB6E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CB35-E633-46D7-98B0-DD3CE9D55240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hyperlink" Target="file:///&#1091;&#1087;&#1088;&#1091;&#1075;&#1072;&#1103;%20&#1080;%20&#1085;&#1077;&#1091;&#1087;&#1088;&#1091;&#1075;&#1072;&#1103;%20&#1076;&#1077;&#1092;&#1086;&#1088;&#1084;&#1072;&#1094;&#1080;&#1103;.sw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84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332000" y="0"/>
            <a:ext cx="70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. Явление тягот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547640" y="1268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Урок физики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rcRect l="3997" t="1752" r="0" b="1596"/>
          <a:stretch/>
        </p:blipFill>
        <p:spPr>
          <a:xfrm>
            <a:off x="0" y="476280"/>
            <a:ext cx="1547640" cy="403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Сила воздействия на тележку"/>
          <p:cNvPicPr/>
          <p:nvPr/>
        </p:nvPicPr>
        <p:blipFill>
          <a:blip r:embed="rId2"/>
          <a:stretch/>
        </p:blipFill>
        <p:spPr>
          <a:xfrm>
            <a:off x="6084720" y="4508640"/>
            <a:ext cx="3016440" cy="2412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Деформация тела при воздействии силы"/>
          <p:cNvPicPr/>
          <p:nvPr/>
        </p:nvPicPr>
        <p:blipFill>
          <a:blip r:embed="rId3"/>
          <a:stretch/>
        </p:blipFill>
        <p:spPr>
          <a:xfrm>
            <a:off x="3059280" y="4508640"/>
            <a:ext cx="3016080" cy="2412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Сложение сил_ лебедь-рак-щука1"/>
          <p:cNvPicPr/>
          <p:nvPr/>
        </p:nvPicPr>
        <p:blipFill>
          <a:blip r:embed="rId4"/>
          <a:stretch/>
        </p:blipFill>
        <p:spPr>
          <a:xfrm>
            <a:off x="0" y="4508640"/>
            <a:ext cx="3016080" cy="2412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7"/>
          <p:cNvSpPr/>
          <p:nvPr/>
        </p:nvSpPr>
        <p:spPr>
          <a:xfrm>
            <a:off x="3276720" y="2349360"/>
            <a:ext cx="58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делал, что мог, пусть другие сделают луч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 знаю, чем я могу казаться ми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амому себе я кажусь мальчи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ающим у моря, которому удалось найти более красивый камешек, чем друг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кеан неизвестного лежит передо м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аак Ньютон (1643-172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0"/>
            <a:ext cx="91440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является мерой взаимодействия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, как и скорость, является векторной величиной. Она характеризуется не только числовым значением и точкой приложения, но и напр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обозначается буквой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со стрелочкой, а ее модуль той же букв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без ст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сть великого английского ученого 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ьютона эта единица названа ньютоном (1Н). 1 кН=1000 Н, 1мН=0,00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4284720" y="2349360"/>
                <a:ext cx="398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2195640" y="4570560"/>
            <a:ext cx="53290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Спасибо за внимание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2" name="Picture 3" descr="учитель"/>
          <p:cNvPicPr/>
          <p:nvPr/>
        </p:nvPicPr>
        <p:blipFill>
          <a:blip r:embed="rId2"/>
          <a:stretch/>
        </p:blipFill>
        <p:spPr>
          <a:xfrm>
            <a:off x="395280" y="2924280"/>
            <a:ext cx="320364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Сила воздействия на тележку"/>
          <p:cNvPicPr/>
          <p:nvPr/>
        </p:nvPicPr>
        <p:blipFill>
          <a:blip r:embed="rId1"/>
          <a:stretch/>
        </p:blipFill>
        <p:spPr>
          <a:xfrm>
            <a:off x="755640" y="0"/>
            <a:ext cx="2592360" cy="2073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0" y="191628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вагонетки меняется под действием рук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6156360" y="0"/>
            <a:ext cx="2089080" cy="1671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5219640" y="1773360"/>
            <a:ext cx="39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и направление движения теннисного шарика меняется при взаимодействии с раке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724720" cy="1906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835280" y="55897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ла, действующая на тело, может не только изменить скорость всего тела, но и отдельных его частей (в таких случаях говорят, что тела </a:t>
            </a:r>
            <a:r>
              <a:rPr b="0" lang="ru-RU" sz="1600" spc="-1" strike="noStrike" u="sng">
                <a:solidFill>
                  <a:srgbClr val="408080"/>
                </a:solidFill>
                <a:uFillTx/>
                <a:latin typeface="Times New Roman"/>
                <a:hlinkClick r:id="rId4"/>
              </a:rPr>
              <a:t>деформ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8436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– причина изменения скорости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8" descr="3"/>
          <p:cNvPicPr/>
          <p:nvPr/>
        </p:nvPicPr>
        <p:blipFill>
          <a:blip r:embed="rId1"/>
          <a:srcRect l="0" t="21939" r="0" b="1102"/>
          <a:stretch/>
        </p:blipFill>
        <p:spPr>
          <a:xfrm>
            <a:off x="2627280" y="2236680"/>
            <a:ext cx="6516720" cy="46213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9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Явление тяготения. Сила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7" descr=""/>
          <p:cNvPicPr/>
          <p:nvPr/>
        </p:nvPicPr>
        <p:blipFill>
          <a:blip r:embed="rId2"/>
          <a:srcRect l="34252" t="17035" r="13767" b="5882"/>
          <a:stretch/>
        </p:blipFill>
        <p:spPr>
          <a:xfrm>
            <a:off x="0" y="2133720"/>
            <a:ext cx="39736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{1375512A-1D8C-4492-A2A0-8A9B9E55BB99}"/>
          <p:cNvPicPr/>
          <p:nvPr/>
        </p:nvPicPr>
        <p:blipFill>
          <a:blip r:embed="rId2"/>
          <a:stretch/>
        </p:blipFill>
        <p:spPr>
          <a:xfrm>
            <a:off x="2843280" y="0"/>
            <a:ext cx="3057480" cy="4591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1"/>
          <p:cNvSpPr/>
          <p:nvPr/>
        </p:nvSpPr>
        <p:spPr>
          <a:xfrm>
            <a:off x="1258920" y="6093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76360" y="458136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Исаак Ньютон (1643 – 172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0" y="50911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аак Ньютон сформулировал основные законы классической механики. Открыл закон всемирного тяготения, дал теорию движения небесных тел, создав основы небесной механики. Работы Ньютона намного опередили общий научный уровень е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04SC002"/>
          <p:cNvPicPr/>
          <p:nvPr/>
        </p:nvPicPr>
        <p:blipFill>
          <a:blip r:embed="rId1"/>
          <a:stretch/>
        </p:blipFill>
        <p:spPr>
          <a:xfrm>
            <a:off x="61920" y="603360"/>
            <a:ext cx="4846680" cy="338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755640" y="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Примеры взаимного притяжения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0" descr="qqq"/>
          <p:cNvPicPr/>
          <p:nvPr/>
        </p:nvPicPr>
        <p:blipFill>
          <a:blip r:embed="rId2"/>
          <a:stretch/>
        </p:blipFill>
        <p:spPr>
          <a:xfrm>
            <a:off x="4500720" y="3484440"/>
            <a:ext cx="4646520" cy="33735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61920" y="3330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5335560" y="39211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Метеорны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http://www.proza.ru/pics/2012/07/15/815.jpg"/>
          <p:cNvPicPr/>
          <p:nvPr/>
        </p:nvPicPr>
        <p:blipFill>
          <a:blip r:embed="rId3"/>
          <a:stretch/>
        </p:blipFill>
        <p:spPr>
          <a:xfrm>
            <a:off x="4500720" y="579600"/>
            <a:ext cx="4646520" cy="2943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1"/>
          <p:cNvSpPr/>
          <p:nvPr/>
        </p:nvSpPr>
        <p:spPr>
          <a:xfrm>
            <a:off x="6661080" y="60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s://encrypted-tbn1.gstatic.com/images?q=tbn:ANd9GcTFDU50bNrCI9pM565ynWXCVanSsV6obTPD5LcHGrTqVsKMikaw"/>
          <p:cNvPicPr/>
          <p:nvPr/>
        </p:nvPicPr>
        <p:blipFill>
          <a:blip r:embed="rId4"/>
          <a:stretch/>
        </p:blipFill>
        <p:spPr>
          <a:xfrm>
            <a:off x="61920" y="4010040"/>
            <a:ext cx="4438800" cy="2954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82440" y="61009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Искусственный спутник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qq"/>
          <p:cNvPicPr/>
          <p:nvPr/>
        </p:nvPicPr>
        <p:blipFill>
          <a:blip r:embed="rId1"/>
          <a:stretch/>
        </p:blipFill>
        <p:spPr>
          <a:xfrm>
            <a:off x="0" y="0"/>
            <a:ext cx="4572000" cy="3684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{CB81405C-BD68-4A6F-AD8B-86C8970B6F67}"/>
          <p:cNvPicPr/>
          <p:nvPr/>
        </p:nvPicPr>
        <p:blipFill>
          <a:blip r:embed="rId2"/>
          <a:stretch/>
        </p:blipFill>
        <p:spPr>
          <a:xfrm>
            <a:off x="4500720" y="3932280"/>
            <a:ext cx="4643280" cy="2925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0" y="4076640"/>
            <a:ext cx="44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тяжение всех тел Вселенной друг к другу называется всемирным тягот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0" y="0"/>
            <a:ext cx="4572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, с которой Земля притягивает к себе тело, называется силой тяж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 тяжести направлена вертикально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6156360" y="1197000"/>
                <a:ext cx="1503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тяж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17928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1187280" y="982800"/>
            <a:ext cx="67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8:38:30Z</dcterms:created>
  <dc:creator>1</dc:creator>
  <dc:description/>
  <dc:language>en-US</dc:language>
  <cp:lastModifiedBy>Макаров</cp:lastModifiedBy>
  <dcterms:modified xsi:type="dcterms:W3CDTF">2012-11-20T07:13:41Z</dcterms:modified>
  <cp:revision>76</cp:revision>
  <dc:subject/>
  <dc:title>Слайд 1</dc:title>
</cp:coreProperties>
</file>